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7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62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488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7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62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82800" y="981000"/>
            <a:ext cx="723888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7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62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488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7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62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0" y="981000"/>
            <a:ext cx="723888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00000" y="1628640"/>
            <a:ext cx="81424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-24660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1480" indent="-257400">
              <a:lnSpc>
                <a:spcPct val="90000"/>
              </a:lnSpc>
              <a:spcBef>
                <a:spcPts val="1400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86680" indent="-25740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86680" indent="-2574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86680" indent="-2574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8067960" cy="56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29400" y="6620040"/>
            <a:ext cx="15019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blong.co.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.NET Language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92360" y="3428640"/>
            <a:ext cx="590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rian Long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raining &amp; Consultancy Service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Narrow"/>
              </a:rPr>
              <a:t>http://www.blong.co.u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s language agnost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77600" y="3357360"/>
            <a:ext cx="40323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some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3573360"/>
            <a:ext cx="57610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Are there any question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29400" y="6620040"/>
            <a:ext cx="15019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blong.co.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773160" cy="5454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2276640"/>
            <a:ext cx="468144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ian L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ian@blong.co.u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5680" y="4365720"/>
            <a:ext cx="4760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 squint and it works better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s language agnost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NET supports different application typ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UI applications based on the WinForms assemb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ole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illustrate the point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loured Pixels in a GUI ap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1362240"/>
            <a:ext cx="8424720" cy="48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CII in a console ap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4680" y="1341360"/>
            <a:ext cx="8496360" cy="49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MMMMMMMMMMMMMMMMMMMMMMMMMMMMMMMMMMMMMMMMMMMMMMMMMMMMMMMMMM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]  MMMMMM#` JMMF MMMMMMMMMMMMMMMMMMMMMMMMMMMMMMMMMMMMMMMMMMMMMM@`..dM#W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].,.MMMMM\. (MMMMMMMMMMMMMMMMMMMMMMMMMMMMMMMMMMMMMMMMMMMMMMMMMM:JMMMM:,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].N.?MMMF.N (MMF MMM^.Jg,.HM@ =.(MB!.&amp;g,.WM@`.gg, WMMt..gJ.?MNJ..J+NJ..J+Nmd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].Mb WM@ dN (MMF MM\.MMMMa+M@ (MM#`.MMMM[ Mb TWMMMMMF dMMMN.JMM~JMMMM{,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].MMx.M'.MN (MMF MM{.MMMMMMM@`dMM# JMMMM] dMNgJ., ?M[ MMMMN`.MM~JMMMM{,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].MMN. .MMN (MMF MMb TMM#`.M@ dMMMx.HMM#!.Mr?MMMM%.MN.?MMM$ dMM!JMMMM{,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.MMMN.dMMN-(MMR.MMMN....gMMN.dMMMMm....gMMMg.....MMMNJ....MMMM+JMMMMN,..dMMMMM_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MMMMMMMMMMMMMMMMMMMMMMMMMMMMMMMMMMMMMMMMMMMMMMMMMMMMMMMMMMMMMMMMM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MMMMMMMMMMMMMMMMMMMMMMMMMMMMMMMMMMMMMMMMMMMMMMMMMMMMMMMMMMMMMMMMM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MHHHHMMMMMB"7???7THMMMMMMMMMMMMMMMMMMMMMMB""""""""""""""""""""""""`   ."""""""MHY#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.MM@!           ?MMMMMMMMMMMMMMMMD!                                       MNNg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.M^   ..J+J..     TMMMMMMMMMMMM=     ..JggJ..     (((((((((((-.   .ggggggg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` .JZyyyyyyyk,    dMMMMMMMMMF    .JMMMMMMMMMN,    (uzuzuzuuuX.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 .Xffffffffffk.   ,MMMMMMMMF    .MMMMMMMMMMMMMp    jVyyyyyyyk_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.Wbbbbbbbbbbbb)   .MMMMMMM#    .MMMMMMMMMMMMMMM-    WkkqkkkkH~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Jqqqqqqqqqqqqqr   .MMMMMMM\    JMMMMMMMMMMMMMMM]    JHH@@@@HH~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dggggggggggggg]    MMMMMMN`                         (NNNNNNN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d@@@@@@@@@@@@@]    MMMMMM#     ......................MMMMMMM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WHHHHHHHHHHHHH]    MMMMMMN     dg@@@@HHHH##NNMMMMMMMMMMMMMMM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W##NN#NN#NN#NN]    MMMMMMM;    dg@@@HHHHH##NMNMMMMMMMMMMMMMM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]    MMMMMMMMMMMMMM]    MMMMMMMb    -H@@@@HHHH##NNMMMMMMMMMMMMMMMM!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"     .TMMMM]    MMMMMMMMMMMMMMF    MHH@@gqH,    ?H@@H@HHH##NNM#!   .MMMMMMMMM_   ,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%        dMMM]    MMMMMMMMMMMMMMF    MHH@ggmqH,    .UMHHHHH#NNMY    .MMMMMMMMMM[    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[        (MMM]    MMMMMMMMMMMMMMF    MMMMHHHHWUl      ?"YYY""!     .MMMMMMMMMMMN.    ?WMMMMH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N,      .MMMM]    MMMMMMMMMMMMMMF                               .(MMMMMMMMMMMMMMN,          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NJ..JMMMMMMb....MMMMMMMMMMMMMMb............................JgMMMMMMMMMMMMMMMMMMMMaJ.......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Lucida Console"/>
              </a:rPr>
              <a:t>MMMMMMMMMMMMMMMMMMMMMMMMMMMMMMMMMMMMMMMMMMMMMMMMMMMMMMMMMMMMMMMMMMMMMMMMMMMMMMMMMMMMMMMMMMMMMMMMMMM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s language agnost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42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NET supports many langu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# (Visual C# .NE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Script 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sual Basic 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++ with Managed Ext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lphi for 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# (Java for .NE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# (OCaml for .NE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s language agnost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tions can now truly be built from subsystems built in different langu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de written in different languages can interact at the object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lasses written in one language can inherit from those written in ano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sider a simple Delphi for .NET application using the Framework class libr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s language agnost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l this is achieved due to the truth of the matter: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NET actually supports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language: the Intermediate Language, ak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S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l the available compilers generate assemblies containing IL (and supporting metada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34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ssembly language of the CLI EE or 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 other words the machine language of the .NET virtual machine, the CL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L was designed to support the language constructs of most styles of high-level programming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s language agnost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34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fferent high-level languages offer different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can merge modules written in different languages into a single assemb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reative-round tripping lets you merge multiple modules into a single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22:52:42Z</dcterms:created>
  <dc:creator>Brian Long</dc:creator>
  <dc:description/>
  <dc:language>en-US</dc:language>
  <cp:lastModifiedBy>Brian Long</cp:lastModifiedBy>
  <cp:lastPrinted>1998-03-12T04:44:47Z</cp:lastPrinted>
  <dcterms:modified xsi:type="dcterms:W3CDTF">2003-06-24T21:29:09Z</dcterms:modified>
  <cp:revision>164</cp:revision>
  <dc:subject>Discussion of the PInvoke and Inverse4 Pinvoke mechanisms that allow Win32 and .NET code to interact</dc:subject>
  <dc:title>.NET Interoperability: .NET &lt;-&gt; Win32</dc:title>
</cp:coreProperties>
</file>